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6.png" ContentType="image/png"/>
  <Override PartName="/ppt/media/image8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13E-43F5-454E-B1B9-61261CD2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A9E-C6B0-4C9E-9E86-C4910226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0EE-83D7-4529-BE5E-C93DB5B6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E24-786B-4425-ACE9-68353DA3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D1CC-980D-48D2-BF68-2625DD0F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78FE-2D86-41E7-9528-AA4EF166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6C58-7248-4086-B047-81D7F537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7FC3-6BA6-49E9-B98D-06EC6A53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A2DC-3270-4497-AC59-AAF7D7BC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9B48-7C5A-43E3-914F-991CE609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9CBC-6BEE-400A-86F3-D887AD2C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1BD-F1F6-4E23-9055-61E866BE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A711-B6F0-4B1E-AFD1-59747A18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3AA0-2EA1-45BA-88A7-431E0A04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7BDD-42F2-4C98-8634-B7F9003F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963F-C571-4F55-803C-B284234C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A4CB-1B22-42AE-A301-CC560C6C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D576-4A23-4335-8821-0BEFD334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75B74-1855-4594-B611-DFA229C4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43BD6-260C-42D4-8DEF-69E47D9B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60DBD-F53E-46C0-93C4-1F8C55BE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70BCF-22B6-4CA2-A2DC-BD47AA61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6EC1-28F1-497A-8D19-AB0CAACE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EC627-1663-46AF-BD7D-648B5A2C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4754D-848C-4776-A431-CF03B9FA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4A49-3F79-4F73-BF95-145D2671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966F5-2B58-4A51-9518-DE0635BD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660AE-0FEE-45F1-9BCD-58C69047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1216E-D8FE-40FC-8F78-CEDED2A1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9B8F4-80D1-4924-B63A-45A718AF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F9D56-882E-4FF4-9E50-16A70ACF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7FCD0-C7E6-4644-BF30-D7A0318B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BB015-7012-4812-BDB8-FE768221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754-CF07-4EB0-A130-3E67EFB2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A674E-A506-4F5C-903E-B484A3C2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84D11-286E-4601-974C-C734A5A3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83370-3D6D-471E-AD2C-629FA89B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E2C6E-71AC-4991-B228-B12DA472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6062C-2BD9-4132-9507-2E644B14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D7088-B432-43E4-8F32-F471D9F1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B9E4A-6507-4EC5-98F2-51E2C016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4E280-1961-4383-A89E-A7B214AB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D9347-6FC4-4AE8-BA4F-148E806F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884-6CFA-405C-BB2B-7AAFC2BC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80D-0A74-4913-9F49-6EC2754F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37A-5B13-450B-8540-EBA5CF65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8F6-8F30-4D5C-8FD4-8FB6DB01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EB6-489B-4298-8823-485E1BCC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BE34-9D5D-46C9-B558-7B01302FF1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9D5E-337E-4B21-9EAD-765758734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235D-D4FF-4266-8818-2BC8F3CED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595F-8710-482E-911E-FC5BFAC56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207180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ДЕНТОГЕНЕ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ИНФЕКЦИЈЕ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МЕКИХ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ТКИВА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ЛИЦА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ВИЛИЦ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0</a:t>
            </a: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2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188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ЕРИКОРОНАРНО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АПАЉ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1520" y="14130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24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и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дразумевам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џепо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це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ицањ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луимпактира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24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униц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ек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џеп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тенцио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ест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статк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ра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актер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ај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чи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ронич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кут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егзацерби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24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уже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исуст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ског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це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сорп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ерикоронарн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ндге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нимк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ид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шир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одонтал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ембра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ntitio deffici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коронарн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еб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атомск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нос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ипич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ик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штинс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сразмер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но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личи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ру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достат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уб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а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орм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ик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луза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в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коронар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џеп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де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с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тенц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татак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актер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кут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гзацерба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уготрај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ронич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мењу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о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ронич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кут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PERICORONITIS 2"/>
          <p:cNvPicPr/>
          <p:nvPr/>
        </p:nvPicPr>
        <p:blipFill>
          <a:blip r:embed="rId2"/>
          <a:stretch/>
        </p:blipFill>
        <p:spPr>
          <a:xfrm>
            <a:off x="5940360" y="1341360"/>
            <a:ext cx="2344680" cy="2374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PERICORONITIS- CRTEZ"/>
          <p:cNvPicPr/>
          <p:nvPr/>
        </p:nvPicPr>
        <p:blipFill>
          <a:blip r:embed="rId3"/>
          <a:stretch/>
        </p:blipFill>
        <p:spPr>
          <a:xfrm>
            <a:off x="5867280" y="3887640"/>
            <a:ext cx="2417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ЕКИХ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КИВ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ЕДЕЛ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3640" y="162864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 У ПРЕДЕЛУ НЕП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 ФОСЕ КАН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 ОБ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 РЕТРОМАКСИЛАРНОГ ПРОС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ДЕЛУ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ЕП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епц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стај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чних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кутић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латиналних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ренов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олар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мола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иш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латиналн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ложај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ре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ч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кутић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могућав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вај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авац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ок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иш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а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аће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ки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ловим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азв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епц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сн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боче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лулопт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с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четк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чврст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нзистен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ко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чврст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еластич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сн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с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ражени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феноменом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флуктуа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хиперемич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ивид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црве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лпациј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зимањ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ежа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дразумев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цизију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з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тпору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нтибиотиц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ANd9GcTvFKBZt9Vg7qx4EApYZEWnhhKGiyf2MicDxKDpuPwjyKZ6jHZu"/>
          <p:cNvPicPr/>
          <p:nvPr/>
        </p:nvPicPr>
        <p:blipFill>
          <a:blip r:embed="rId2"/>
          <a:stretch/>
        </p:blipFill>
        <p:spPr>
          <a:xfrm>
            <a:off x="5367240" y="2076480"/>
            <a:ext cx="331956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ЧЊАЧКЕ ЈА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7640" y="1480680"/>
            <a:ext cx="514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чњачке ја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илтр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ви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чња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ици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ис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урунку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ва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биот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треб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чин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т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оралн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виснос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лизи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нос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ж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ор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вц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род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б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г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409720" y="1066680"/>
            <a:ext cx="3048120" cy="2719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Gray157"/>
          <p:cNvPicPr/>
          <p:nvPr/>
        </p:nvPicPr>
        <p:blipFill>
          <a:blip r:embed="rId3"/>
          <a:stretch/>
        </p:blipFill>
        <p:spPr>
          <a:xfrm>
            <a:off x="5410080" y="1103400"/>
            <a:ext cx="3353040" cy="275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untitled1329950000757"/>
          <p:cNvPicPr/>
          <p:nvPr/>
        </p:nvPicPr>
        <p:blipFill>
          <a:blip r:embed="rId4"/>
          <a:stretch/>
        </p:blipFill>
        <p:spPr>
          <a:xfrm>
            <a:off x="6046920" y="3919680"/>
            <a:ext cx="220320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144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БУКАЛНОГ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3840" y="1052280"/>
            <a:ext cx="601992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 букалног простора потичу од бочних зуба гор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 исто тако и доње 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 захвата читав предео образа када инфекција потиче од бочних зуба горње 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 чему гној пробија периост изнад припоја образне мускулатуре на горњој вили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стресито везивно и масно ткиво образа погодују ширењу 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 иде од предње ивице 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masseter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а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 горње усне и носа и доњег очног кап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есто се његова доња граница пружа до базе мандибу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тав образ је тврде конзистен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 болан на притис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жа је затегну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јајна и црв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 се појавити висока температура и грозн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 образа треба што је могуће раније отворити интраорал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SKIN%20ABSCESS"/>
          <p:cNvPicPr/>
          <p:nvPr/>
        </p:nvPicPr>
        <p:blipFill>
          <a:blip r:embed="rId2"/>
          <a:stretch/>
        </p:blipFill>
        <p:spPr>
          <a:xfrm>
            <a:off x="6116760" y="3860640"/>
            <a:ext cx="2495520" cy="2086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Subcutaneous%2Babscess%2Boriginating%2Bfrom%2Ba%2Bmandibular%2Btooth%2Bclinical%2Bphotograph"/>
          <p:cNvPicPr/>
          <p:nvPr/>
        </p:nvPicPr>
        <p:blipFill>
          <a:blip r:embed="rId3"/>
          <a:srcRect l="6942" t="0" r="0" b="0"/>
          <a:stretch/>
        </p:blipFill>
        <p:spPr>
          <a:xfrm>
            <a:off x="6116760" y="1628640"/>
            <a:ext cx="252252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1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РЕТРОМАКСИЛАРНОГ</a:t>
            </a:r>
            <a:br>
              <a:rPr sz="3200"/>
            </a:b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8587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вог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ич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е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мња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бе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нестез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ре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нск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лекс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сниј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емато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ромаксилар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јагности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ромаксилар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ређе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шко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ш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ив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це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игра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б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кстраор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м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нифест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к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чет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адију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сут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лов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tuber maxillae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со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мперату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четк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вара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љ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к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вљу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во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напредовал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це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траор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дет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знат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перем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ок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tuber maxillae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со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мперату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чањ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изм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ч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раж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армант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хтев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узима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т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еч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7040" y="188640"/>
            <a:ext cx="84981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ЕДЕЛ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РАД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АНДИБУЛАР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ТЕРИГОМАНДИБУЛАР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ФАРИНГЕАЛ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ОТИДНОМАСЕТЕРИЧ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afp19990701p109-f5"/>
          <p:cNvPicPr/>
          <p:nvPr/>
        </p:nvPicPr>
        <p:blipFill>
          <a:blip r:embed="rId3"/>
          <a:stretch/>
        </p:blipFill>
        <p:spPr>
          <a:xfrm>
            <a:off x="5638680" y="4235400"/>
            <a:ext cx="2914920" cy="2246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Pterygomandibular-Abscess"/>
          <p:cNvPicPr/>
          <p:nvPr/>
        </p:nvPicPr>
        <p:blipFill>
          <a:blip r:embed="rId4"/>
          <a:stretch/>
        </p:blipFill>
        <p:spPr>
          <a:xfrm>
            <a:off x="5773680" y="1143000"/>
            <a:ext cx="2608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628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ЕРИМАНДИБУ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11040" y="1166400"/>
            <a:ext cx="856008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зив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ач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н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спе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о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ћ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њо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рши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ва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кроз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о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о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к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теж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в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руг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л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личи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кад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толош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гранича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руч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знат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ај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ште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а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руг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чајев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т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ће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шт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ши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а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се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вес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збиљ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мплика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ој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кализацијо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ва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ћ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њ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рш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његов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хра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асн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н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теомијелити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те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рурш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ечењ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3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БРАДНОГ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а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ич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кутић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чња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е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зи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ицир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цис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рочни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мењ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ла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еркуси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фект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у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ау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игра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сец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ди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е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витализациј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њ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ронтал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сн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вљу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вр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кализов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кључив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а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ча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миненци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црв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тегну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лат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јај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но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лог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покрет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ЕКИХ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К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0960" y="1484280"/>
            <a:ext cx="805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Неспецифич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меких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рипадај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најучесталији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бољењим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редел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лица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вилиц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развијај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екундар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бичн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отич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оштаног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1" i="1" lang="sr-Latn-RS" sz="2400" spc="-1" strike="noStrike">
                <a:solidFill>
                  <a:srgbClr val="025198"/>
                </a:solidFill>
                <a:latin typeface="Arial"/>
              </a:rPr>
              <a:t>paradontitis apicalis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ређ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римарн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меки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ткивим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зазивач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ахтев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лазно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мест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мртв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уб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отпорн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апарат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с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шупљи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овред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др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3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УБЛИНГВАЛ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 сублингвалне ложе може настати од свих зуба доње 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да гној перфорира коштано ткиво изнад припоја 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musculus m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y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loh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y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oideus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 врло често потиче од пародонталних абсце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атомска грађа алвеоларног наставка и релативно танак коштани зид у пределу бочних зуба омогућава ширење инфекције ка сублингвалном простор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 овог простора може бити последица повреда слузокоже пода 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лкулуса у Вартоновом кана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(W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arton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на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о и инфицираних циста у меким ткивима пода 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ANd9GcRamEpxMWwVbP7r8duD7xg3MALYHSoD090Zv0GlZI2mYuC1mBnH"/>
          <p:cNvPicPr/>
          <p:nvPr/>
        </p:nvPicPr>
        <p:blipFill>
          <a:blip r:embed="rId2"/>
          <a:stretch/>
        </p:blipFill>
        <p:spPr>
          <a:xfrm>
            <a:off x="5148360" y="1844640"/>
            <a:ext cx="36208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УБЛИНГВАЛ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1118880"/>
            <a:ext cx="885672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ћ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толошк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цес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п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тич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одонтал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ицира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кцио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т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кализов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в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тис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вр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врс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пој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шта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лог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ил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укоз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тил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тав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игну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кор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си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чив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тис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Plica sublingualis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крив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еличаст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вкаст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сеудомембрана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мер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драв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в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жа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знапредова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и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љу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андибуларно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во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љ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ормира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ва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т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ле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уб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ук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ст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изражен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луктуа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УБМАНДИБУЛАРНОГ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7080" y="1699920"/>
            <a:ext cx="64911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имар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бмандибулар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ирење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онтоге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мола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ла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аљ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гућност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г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кут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имфаденитис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</a:t>
            </a:r>
            <a:r>
              <a:rPr b="0" lang="sr-RS" sz="2400" spc="-1" strike="noStrike">
                <a:solidFill>
                  <a:srgbClr val="025198"/>
                </a:solidFill>
                <a:latin typeface="Arial"/>
              </a:rPr>
              <a:t>ј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лоаденити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леч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уб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тк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г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ANd9GcTQ-ak6A6kPxTIfvW5anXY503pDIDJxvNKCOrfs4SDj1-nnfTn0"/>
          <p:cNvPicPr/>
          <p:nvPr/>
        </p:nvPicPr>
        <p:blipFill>
          <a:blip r:embed="rId2"/>
          <a:stretch/>
        </p:blipFill>
        <p:spPr>
          <a:xfrm>
            <a:off x="6084720" y="2708280"/>
            <a:ext cx="2428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УБМАНДИБУЛАРНОГ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43000"/>
            <a:ext cx="532764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ар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андибулар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о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шкоћ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сму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љу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оштр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ои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ерноклеидомастоид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п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ента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аз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лпир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м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лате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д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т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ра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трао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г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ж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дњ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тија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ил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тис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аж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нстатов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ћ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фаринге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биотиц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оспита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abscess_342x198_BR1T2D"/>
          <p:cNvPicPr/>
          <p:nvPr/>
        </p:nvPicPr>
        <p:blipFill>
          <a:blip r:embed="rId2"/>
          <a:stretch/>
        </p:blipFill>
        <p:spPr>
          <a:xfrm>
            <a:off x="5580000" y="1484280"/>
            <a:ext cx="3276720" cy="1898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ANd9GcREYll3M0pByT0nEkTCAGu93NSsr5AXzfXwEsRrID7Ix28j3Xdx"/>
          <p:cNvPicPr/>
          <p:nvPr/>
        </p:nvPicPr>
        <p:blipFill>
          <a:blip r:embed="rId3"/>
          <a:stretch/>
        </p:blipFill>
        <p:spPr>
          <a:xfrm>
            <a:off x="5580000" y="3789360"/>
            <a:ext cx="3276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УБМАНДИБУЛАРНОГ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5741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25198"/>
                </a:solidFill>
                <a:latin typeface="Arial"/>
              </a:rPr>
              <a:t>Инцизија-антибиотици-хоспит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Neck_Abscess_Child_305SQ"/>
          <p:cNvPicPr/>
          <p:nvPr/>
        </p:nvPicPr>
        <p:blipFill>
          <a:blip r:embed="rId2"/>
          <a:stretch/>
        </p:blipFill>
        <p:spPr>
          <a:xfrm>
            <a:off x="611280" y="2141640"/>
            <a:ext cx="3735360" cy="3735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Neck_Abscess_Child_I_D_Pus_305SQ"/>
          <p:cNvPicPr/>
          <p:nvPr/>
        </p:nvPicPr>
        <p:blipFill>
          <a:blip r:embed="rId3"/>
          <a:stretch/>
        </p:blipFill>
        <p:spPr>
          <a:xfrm>
            <a:off x="4859280" y="2122560"/>
            <a:ext cx="37483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ПТЕРИГОМАНДИБУЛАРНОГ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1000" y="1174680"/>
            <a:ext cx="80024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онтогеног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ст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ко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провод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нестез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n. alveolaris inferior</a:t>
            </a:r>
            <a:r>
              <a:rPr b="0" i="1" lang="sr-C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вред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до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емат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кундар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ици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онтоге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ли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че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скључив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њ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мњак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м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руг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нат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ђ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в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ла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ок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стеомијелити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ст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ицира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ист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ндибул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ављ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шкоћ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утањ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ПТЕРИГОМАНДИБУЛАРНОГ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8000" y="1139400"/>
            <a:ext cx="874872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о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знат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раже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ramus mandibulae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преча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ра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колик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</a:t>
            </a:r>
            <a:r>
              <a:rPr b="0" lang="sr-RS" sz="1800" spc="-1" strike="noStrike">
                <a:solidFill>
                  <a:srgbClr val="025198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е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пча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у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диј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ву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дематоз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ж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isthmus fauc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фарингеал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товремен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ћ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ич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мптоматолог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ликов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е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д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ramus mandibulae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ћ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отид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уж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usculus temporalis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ратемпо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о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мајућ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н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опход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 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е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чин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траора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ramus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andibulae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ма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на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trigonum retromolare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а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ramus mandibulae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. pterygoideus medialis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раже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зм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орал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АРАФАРИНГЕАЛ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ар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нтоге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тиолог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одговорни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мњ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ног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ешћ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кундар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сед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олова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упадљиви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шкоћ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о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дост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ч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г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ет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знат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дија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лпац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вара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ст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дње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ла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пча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ук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ча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ов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ж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ес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ерату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ви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38-40°C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л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брз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мет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са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а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х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казу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суств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со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ерату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ов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е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мет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са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тев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т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руршк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тервенцију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АРОТИДНОМАСЕТЕРИЧ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142640"/>
            <a:ext cx="65534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имар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донтоге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тромандибулар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тк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јав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ње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мњак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кундар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е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асетеричн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андибулар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ст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пољње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шно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нал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гнојн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ог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дрет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ssa retromandibular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ж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на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л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тегнут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јај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црве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варањ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езнат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граниче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Флуктуац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нстату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ек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д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д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формира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убкутаног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д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гној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ротити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жлезд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тиснут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војо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псуло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ез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ремећа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ње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фун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јав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ризму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ешкоћ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гута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говоре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ил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рафарингеално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sr-Latn-R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бсцес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тромандибулар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варај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учни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зо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иличног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гл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Pre-auricular_abscess"/>
          <p:cNvPicPr/>
          <p:nvPr/>
        </p:nvPicPr>
        <p:blipFill>
          <a:blip r:embed="rId2"/>
          <a:stretch/>
        </p:blipFill>
        <p:spPr>
          <a:xfrm>
            <a:off x="5940360" y="2781360"/>
            <a:ext cx="320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ТЕМПОРАЛ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РАТЕМПОРАЛ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ТЕРИГОПАЛАТИНСКЕ ЈА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2920" y="1285560"/>
            <a:ext cx="875016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лепооч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л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ентоге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 наста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уседних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донтоге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ратемпоралног</a:t>
            </a:r>
            <a:r>
              <a:rPr b="0" lang="sr-RS" sz="1600" spc="-1" strike="noStrike">
                <a:solidFill>
                  <a:srgbClr val="025198"/>
                </a:solidFill>
                <a:latin typeface="Arial"/>
              </a:rPr>
              <a:t> и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тер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y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гопалатинског 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тромаксилар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рафарингеалног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ромбофлебити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теригоид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лексу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имар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ssae infratemporalis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теригопалатинск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м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уббазалних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нестез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ramena rotunduma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ramena ova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јав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ок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лепоочном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казу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аљ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ив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це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руг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окализа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ека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ејасн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езнат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дир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на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игоматич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ук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ssae infratemporalis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ssae pterygopalatinae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лиских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опографских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дно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чест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стовреме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хваће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ење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ssae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infratemporalis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pter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y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gopalatinae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ћи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збиљних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мпликациј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енингитис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бсцес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озг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ramen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ovale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ramen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spinosum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canalis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rotundus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i="1" lang="sr-CS" sz="16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ширил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ендокранијуму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вод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т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екстаорал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Врст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број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вируленциј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роузроковач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локалн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пшт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дбран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рганизма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др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ђ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ј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развој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рганиза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реагу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целуларно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дбрано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омоћ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беланчевина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рв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лазм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хуморално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дбрано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резултат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телес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целулар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хуморалне одбра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ојав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словљен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делимичн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анатомским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пецифичностим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лиц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вилиц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8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ЕКИХ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К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РБ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09520" y="1484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иног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ловљ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тежн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дирањ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ној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аназал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упљи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sinusitis maxillari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онтог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ица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их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ла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ромаксилар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с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теригопалати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гућ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т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г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стављ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периост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бсцес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ериос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е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у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49360" y="1774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РБ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" y="1091880"/>
            <a:ext cx="58849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кализов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ч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упљ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казу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ив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д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ч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п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емоз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њункти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трузиј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улб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кретљив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улб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гранич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ди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коли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лож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уб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толи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па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падљив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а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кретљивос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улб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восл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лабље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битк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сут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лавобољ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ећај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тис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олел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ш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ено са високом телесном 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ерату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ак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ч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клон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чин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визиј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назал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упљи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опход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ма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динир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со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з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био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1260454e%20orbit%20infection%20abscess%20oedema%20erythema%20limitation%20eye%20movement%20proptosis%201"/>
          <p:cNvPicPr/>
          <p:nvPr/>
        </p:nvPicPr>
        <p:blipFill>
          <a:blip r:embed="rId2"/>
          <a:stretch/>
        </p:blipFill>
        <p:spPr>
          <a:xfrm>
            <a:off x="6175440" y="1628640"/>
            <a:ext cx="2860560" cy="1946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2462_303"/>
          <p:cNvPicPr/>
          <p:nvPr/>
        </p:nvPicPr>
        <p:blipFill>
          <a:blip r:embed="rId3"/>
          <a:stretch/>
        </p:blipFill>
        <p:spPr>
          <a:xfrm>
            <a:off x="6162840" y="3681360"/>
            <a:ext cx="2890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ЛЕГМО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6188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легм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фуз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стресит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зив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нден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њ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варањ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бсц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легмо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опасн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к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шав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латив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ве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грожав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ив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офацијалн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ги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легм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вљ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ги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удовиц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(Ludowici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ра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лик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в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д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The_course_of_phlegmon"/>
          <p:cNvPicPr/>
          <p:nvPr/>
        </p:nvPicPr>
        <p:blipFill>
          <a:blip r:embed="rId2"/>
          <a:stretch/>
        </p:blipFill>
        <p:spPr>
          <a:xfrm>
            <a:off x="5829480" y="3933720"/>
            <a:ext cx="3079440" cy="2363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ANd9GcSRWTq-pWOdYHMarIswVVhlo5fEAiHfKgWwhRujHFzACFNNx0QTwrVndg"/>
          <p:cNvPicPr/>
          <p:nvPr/>
        </p:nvPicPr>
        <p:blipFill>
          <a:blip r:embed="rId3"/>
          <a:stretch/>
        </p:blipFill>
        <p:spPr>
          <a:xfrm>
            <a:off x="6588000" y="1338120"/>
            <a:ext cx="2032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ЛЕГМОН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Д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40" y="1052280"/>
            <a:ext cx="90043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легмо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ре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лаз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н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легмо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легмо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вијен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ор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андибулар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енталн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рз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о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брад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вилич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вр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с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ди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тисну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ж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с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в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есни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во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нед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тав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дигну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кор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чив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кутић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ли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че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х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криве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еличаст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ибрински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лага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сећ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тлов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рест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)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љу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ет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персалива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ов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ће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рхтавиц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лад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оје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сок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ератур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бље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пети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лаксалошћ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брза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аб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ње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л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ФЛЕГМОН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ОД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СТА</a:t>
            </a:r>
            <a:br>
              <a:rPr sz="36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дијагноза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2920" y="1071360"/>
            <a:ext cx="87868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јагно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тављ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е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нов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и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р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волу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сок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ерату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брз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л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ш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ш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ијано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а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ла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ла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год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ст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лимич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мбинов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мптом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о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ш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легмо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к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врд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илтра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вр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с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јас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раниц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ол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то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кал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ражен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ор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грожав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живо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оли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дијастину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асн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омбофлебити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25198"/>
                </a:solidFill>
                <a:latin typeface="Arial"/>
              </a:rPr>
              <a:t>v. jugularis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н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гуш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п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preview_html_75f62237"/>
          <p:cNvPicPr/>
          <p:nvPr/>
        </p:nvPicPr>
        <p:blipFill>
          <a:blip r:embed="rId2"/>
          <a:stretch/>
        </p:blipFill>
        <p:spPr>
          <a:xfrm>
            <a:off x="1428840" y="4548240"/>
            <a:ext cx="2522520" cy="2090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image008"/>
          <p:cNvPicPr/>
          <p:nvPr/>
        </p:nvPicPr>
        <p:blipFill>
          <a:blip r:embed="rId3"/>
          <a:stretch/>
        </p:blipFill>
        <p:spPr>
          <a:xfrm>
            <a:off x="4214880" y="4510080"/>
            <a:ext cx="3659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560" y="-3384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ФЛЕГМОН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ОД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СТА</a:t>
            </a:r>
            <a:br>
              <a:rPr sz="3200"/>
            </a:b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75128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рз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узе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узроковач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каз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ен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иља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рап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бија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зулт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биогра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енит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емотерапеути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ок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пектр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јст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узе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из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брамбе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на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уз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таминс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рапије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рдиотоник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треб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Ludwig_s_Angina_ENT_009"/>
          <p:cNvPicPr/>
          <p:nvPr/>
        </p:nvPicPr>
        <p:blipFill>
          <a:blip r:embed="rId2"/>
          <a:stretch/>
        </p:blipFill>
        <p:spPr>
          <a:xfrm>
            <a:off x="5543640" y="3803760"/>
            <a:ext cx="2720880" cy="2638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ANd9GcQ0BkPjKyzkrHoQFBXlS8B82TCgqNjZgvaxmZPQkDNLUPleCbVe"/>
          <p:cNvPicPr/>
          <p:nvPr/>
        </p:nvPicPr>
        <p:blipFill>
          <a:blip r:embed="rId3"/>
          <a:stretch/>
        </p:blipFill>
        <p:spPr>
          <a:xfrm>
            <a:off x="5554800" y="1341360"/>
            <a:ext cx="272088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ДОНТОГЕНИХ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11280" y="1371600"/>
            <a:ext cx="648180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Хематогено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шир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ректно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i="1" lang="hr-HR" sz="1800" spc="-1" strike="noStrike">
                <a:solidFill>
                  <a:srgbClr val="025198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25198"/>
                </a:solidFill>
                <a:latin typeface="Arial"/>
              </a:rPr>
              <a:t>per</a:t>
            </a:r>
            <a:r>
              <a:rPr b="1" i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25198"/>
                </a:solidFill>
                <a:latin typeface="Arial"/>
              </a:rPr>
              <a:t>continuitatem</a:t>
            </a:r>
            <a:r>
              <a:rPr b="1" i="1" lang="hr-HR" sz="1800" spc="-1" strike="noStrike">
                <a:solidFill>
                  <a:srgbClr val="02519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Хематогено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шир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фекциј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рчаних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листак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фекциј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штачких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глобов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даљен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птичк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жаришт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онтоген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пс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Ludwig%2527s+Angina+4"/>
          <p:cNvPicPr/>
          <p:nvPr/>
        </p:nvPicPr>
        <p:blipFill>
          <a:blip r:embed="rId2"/>
          <a:stretch/>
        </p:blipFill>
        <p:spPr>
          <a:xfrm>
            <a:off x="5138640" y="3279600"/>
            <a:ext cx="37306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ДОНТОГЕНИХ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324000" y="1136520"/>
            <a:ext cx="8391240" cy="38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Директно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ширење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hr-HR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per</a:t>
            </a:r>
            <a:r>
              <a:rPr b="1" i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continuitatem</a:t>
            </a:r>
            <a:r>
              <a:rPr b="1" i="1" lang="hr-HR" sz="20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Продор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медијастинум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некротизирајући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медијастинитис</a:t>
            </a:r>
            <a:r>
              <a:rPr b="1" lang="sr-Latn-R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тракранијалн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тромбоз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кавернозног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упуративни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тромбофлебитис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i="1" lang="sr-Latn-RS" sz="2000" spc="-1" strike="noStrike">
                <a:solidFill>
                  <a:srgbClr val="025198"/>
                </a:solidFill>
                <a:latin typeface="Arial"/>
              </a:rPr>
              <a:t>v. jugularis internae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Ерозиј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каротиде</a:t>
            </a:r>
            <a:r>
              <a:rPr b="1" lang="sr-Latn-R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Максиларни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инуситис</a:t>
            </a:r>
            <a:r>
              <a:rPr b="1" lang="sr-Latn-R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Остеомијелитис</a:t>
            </a:r>
            <a:r>
              <a:rPr b="1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mediastinitis"/>
          <p:cNvPicPr/>
          <p:nvPr/>
        </p:nvPicPr>
        <p:blipFill>
          <a:blip r:embed="rId2"/>
          <a:stretch/>
        </p:blipFill>
        <p:spPr>
          <a:xfrm>
            <a:off x="4143240" y="3643200"/>
            <a:ext cx="40500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487440" y="26028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ДОНТОГЕНИХ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82520" y="1136520"/>
            <a:ext cx="8961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упуративни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тромбофлебитис </a:t>
            </a:r>
            <a:r>
              <a:rPr b="1" i="1" lang="sr-Latn-RS" sz="2000" spc="-1" strike="noStrike">
                <a:solidFill>
                  <a:srgbClr val="025198"/>
                </a:solidFill>
                <a:latin typeface="Arial"/>
              </a:rPr>
              <a:t>v. jugularis internae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025198"/>
                </a:solidFill>
                <a:latin typeface="Arial"/>
              </a:rPr>
              <a:t>S</a:t>
            </a:r>
            <a:r>
              <a:rPr b="1" i="1" lang="hr-HR" sz="2000" spc="-1" strike="noStrike">
                <a:solidFill>
                  <a:srgbClr val="025198"/>
                </a:solidFill>
                <a:latin typeface="Arial"/>
              </a:rPr>
              <a:t>y </a:t>
            </a:r>
            <a:r>
              <a:rPr b="1" i="1" lang="en-US" sz="2000" spc="-1" strike="noStrike">
                <a:solidFill>
                  <a:srgbClr val="025198"/>
                </a:solidFill>
                <a:latin typeface="Arial"/>
              </a:rPr>
              <a:t>Lemierre</a:t>
            </a:r>
            <a:r>
              <a:rPr b="1" i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Значај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зистирајућ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актеријемиј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Клиничк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резентација</a:t>
            </a:r>
            <a:r>
              <a:rPr b="1" lang="sr-RS" sz="18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Нагл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очетак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фебрилитет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општ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слабост</a:t>
            </a:r>
            <a:r>
              <a:rPr b="1" lang="sr-RS" sz="1800" spc="-1" strike="noStrike">
                <a:solidFill>
                  <a:srgbClr val="025198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25198"/>
                </a:solidFill>
                <a:latin typeface="Arial"/>
              </a:rPr>
              <a:t>л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окализован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бол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сфагија</a:t>
            </a:r>
            <a:r>
              <a:rPr b="1" lang="sr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Комплик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Метастатск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апсцес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лућ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мозак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бубрез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25198"/>
                </a:solidFill>
                <a:latin typeface="Arial"/>
              </a:rPr>
              <a:t>з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глобови</a:t>
            </a:r>
            <a:r>
              <a:rPr b="1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Calibri"/>
              </a:rPr>
              <a:t>Дијагноза</a:t>
            </a:r>
            <a:r>
              <a:rPr b="1" lang="sr-Latn-RS" sz="20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C</a:t>
            </a:r>
            <a:r>
              <a:rPr b="0" i="1" lang="sr-CS" sz="2000" spc="-1" strike="noStrike">
                <a:solidFill>
                  <a:srgbClr val="025198"/>
                </a:solidFill>
                <a:latin typeface="Calibri"/>
              </a:rPr>
              <a:t>Т</a:t>
            </a:r>
            <a:r>
              <a:rPr b="0" lang="hr-HR" sz="2000" spc="-1" strike="noStrike">
                <a:solidFill>
                  <a:srgbClr val="025198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Calibri"/>
              </a:rPr>
              <a:t>с</a:t>
            </a:r>
            <a:r>
              <a:rPr b="0" lang="hr-HR" sz="2000" spc="-1" strike="noStrike">
                <a:solidFill>
                  <a:srgbClr val="025198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Calibri"/>
              </a:rPr>
              <a:t>контрас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2519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25198"/>
                </a:solidFill>
                <a:latin typeface="Calibri"/>
              </a:rPr>
              <a:t>М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RI</a:t>
            </a:r>
            <a:r>
              <a:rPr b="0" lang="hr-HR" sz="2000" spc="-1" strike="noStrike">
                <a:solidFill>
                  <a:srgbClr val="025198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Calibri"/>
              </a:rPr>
              <a:t>ангиогра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антибиотиц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3-6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Хитн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хоспита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Case21.Neck_CT_Lemierre_Syndrome"/>
          <p:cNvPicPr/>
          <p:nvPr/>
        </p:nvPicPr>
        <p:blipFill>
          <a:blip r:embed="rId2"/>
          <a:stretch/>
        </p:blipFill>
        <p:spPr>
          <a:xfrm>
            <a:off x="5670720" y="1881360"/>
            <a:ext cx="311148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ДОНТОГЕНИХ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24000" y="1419120"/>
            <a:ext cx="61196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Директно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ширење</a:t>
            </a:r>
            <a:r>
              <a:rPr b="1" lang="sr-Latn-R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per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continuitatem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Ерозија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арот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атералног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арингеалног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Lud</a:t>
            </a:r>
            <a:r>
              <a:rPr b="0" i="1" lang="hr-HR" sz="1800" spc="-1" strike="noStrike">
                <a:solidFill>
                  <a:srgbClr val="025198"/>
                </a:solidFill>
                <a:latin typeface="Arial"/>
              </a:rPr>
              <a:t>w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ig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-ов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гин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, 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псцедирајућег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имфаденитис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ату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25198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шко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птично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ање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25198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ност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уптур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ротиде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микробно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+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в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везивањ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a</a:t>
            </a:r>
            <a:r>
              <a:rPr b="0" i="1" lang="hr-HR" sz="18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caro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еталитет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: 20-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Cartoid1"/>
          <p:cNvPicPr/>
          <p:nvPr/>
        </p:nvPicPr>
        <p:blipFill>
          <a:blip r:embed="rId2"/>
          <a:stretch/>
        </p:blipFill>
        <p:spPr>
          <a:xfrm>
            <a:off x="6227640" y="2220840"/>
            <a:ext cx="2865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РСТ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пореклу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зазивач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постоје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Егзоген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зивач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ич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пољ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реди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Ендоген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зивач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ћ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ганиз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Ре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товет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зивач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нов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екундарн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новљ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руг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узроковач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Комбинован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јств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узроковач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Латентн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ост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е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ђ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гзацербације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ДОНТОГЕНИХ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24000" y="981000"/>
            <a:ext cx="532764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Директно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ширење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per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continuitatem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стеомијелитис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ви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ндиб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ненађујућ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Ризичн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фак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тходн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рактур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рачењ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јабетес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ероидн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рап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Клиничк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резент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з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јаг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цинтиграф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тиолошк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јагноз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роничног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теомијелитис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опсиј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: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микробно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4-6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6" descr="gr2"/>
          <p:cNvPicPr/>
          <p:nvPr/>
        </p:nvPicPr>
        <p:blipFill>
          <a:blip r:embed="rId2"/>
          <a:stretch/>
        </p:blipFill>
        <p:spPr>
          <a:xfrm>
            <a:off x="4859280" y="3429000"/>
            <a:ext cx="41767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IndianJOphthalmol_2013_61_7_349_109533_f1"/>
          <p:cNvPicPr/>
          <p:nvPr/>
        </p:nvPicPr>
        <p:blipFill>
          <a:blip r:embed="rId2"/>
          <a:srcRect l="525" t="17671" r="0" b="20503"/>
          <a:stretch/>
        </p:blipFill>
        <p:spPr>
          <a:xfrm>
            <a:off x="5343480" y="2273400"/>
            <a:ext cx="3689280" cy="18637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395280" y="0"/>
            <a:ext cx="8610480" cy="59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иректно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ширење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ептичка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тромбоза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авернозног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зро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пурулентни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инуситис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фацијалн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фурунку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25198"/>
                </a:solidFill>
                <a:uFillTx/>
                <a:latin typeface="Arial"/>
              </a:rPr>
              <a:t>Одонтогени</a:t>
            </a:r>
            <a:r>
              <a:rPr b="0" lang="hr-HR" sz="2000" spc="-1" strike="noStrike" u="sng">
                <a:solidFill>
                  <a:srgbClr val="025198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25198"/>
                </a:solidFill>
                <a:uFillTx/>
                <a:latin typeface="Arial"/>
              </a:rPr>
              <a:t>узрок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арни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гли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четак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ебрилитет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лавобо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вослике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тофобија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дем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гзофтал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фталмоплегија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терна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ксте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дем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пиле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чног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ивца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варење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ину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=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убитак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ремећај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ДОНТОГЕНЕ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468360" y="1197000"/>
            <a:ext cx="835344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ндикације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пућивање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ацијента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болн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брзо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рогресивн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целул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спне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сфаг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убок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фасцијалн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рост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фебрилитет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&gt;38º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јач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размак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секутић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&lt; 1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цм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ацијент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вероватно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нећ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узимат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репоручен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лек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неуспех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ницијалног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леч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теж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оремећено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општ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мунокомпромитован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болесниц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5198"/>
                </a:solidFill>
                <a:latin typeface="Arial"/>
              </a:rPr>
              <a:t>(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јабетичар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алкохоличар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отхрањен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муносупресивн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терапиј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ХИВ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1800" spc="-1" strike="noStrike">
                <a:solidFill>
                  <a:srgbClr val="02519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4000" y="1052280"/>
            <a:ext cx="903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С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ероз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RS" sz="1900" spc="-1" strike="noStrike">
                <a:solidFill>
                  <a:srgbClr val="025198"/>
                </a:solidFill>
                <a:latin typeface="Arial"/>
              </a:rPr>
              <a:t>т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нак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езнатног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штћењ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ериферн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рвн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дов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есту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Ф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иброз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иброз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сутн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ијапедез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лазм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ибринск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е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ксудат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рвн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лазм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кстравазалн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ципитир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ибрин</a:t>
            </a:r>
            <a:r>
              <a:rPr b="0" lang="sr-Latn-RS" sz="19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Г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ној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гнојн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арактеристичн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ијапедез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леукоцита</a:t>
            </a:r>
            <a:r>
              <a:rPr b="0" lang="sr-Latn-RS" sz="19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Ф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легмоноз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одир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ерифокал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дем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колин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омоћ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бактеријск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ерменат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хијалуронидаз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ибринолизир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колн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еђућелијск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осторе</a:t>
            </a:r>
            <a:r>
              <a:rPr b="0" lang="sr-RS" sz="19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Г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ангреноз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разви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гној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екротич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уте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перинфекције</a:t>
            </a:r>
            <a:r>
              <a:rPr b="0" lang="sr-RS" sz="19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Х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еморагич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хемораг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ч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во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лан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ритр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ијапедез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тешк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штећењ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рвн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дов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ск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оцеса</a:t>
            </a:r>
            <a:r>
              <a:rPr b="0" lang="sr-RS" sz="19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Н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екротич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анифесту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екрозо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з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суств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ал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оличине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ибриноз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ксудата</a:t>
            </a:r>
            <a:r>
              <a:rPr b="0" lang="sr-RS" sz="19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РСТ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НАЦ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АПАЉЕ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Општи</a:t>
            </a:r>
            <a:r>
              <a:rPr b="1" lang="en-US" sz="2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1" lang="en-US" sz="2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1" lang="en-US" sz="2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нифесту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мен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лес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мператур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менам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ној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лиц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метњам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оток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м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да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пшт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токсикац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оксем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актеријем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птикем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птикопием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Локални</a:t>
            </a:r>
            <a:r>
              <a:rPr b="1" lang="sr-Latn-CS" sz="2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1" lang="sr-Latn-CS" sz="2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1" lang="sr-Latn-CS" sz="28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елзус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ален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писал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ет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мптом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tumor)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ол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dolor)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рвенил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rubor)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вишењ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мператур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calor)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ремећај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функциј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functio lae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ЗРОЦ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0360" y="1773000"/>
            <a:ext cx="835488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онтогени узроци у пределу лица и вилица су узрок инфекције у прек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90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сто случаје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 учесталости узроци инфекције су најчешћ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пикални пародонтитис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а после екстракције з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тежано ницање умњак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(</a:t>
            </a:r>
            <a:r>
              <a:rPr b="0" i="1" lang="sr-CS" sz="2400" spc="-1" strike="noStrike">
                <a:solidFill>
                  <a:srgbClr val="025198"/>
                </a:solidFill>
                <a:latin typeface="Arial"/>
              </a:rPr>
              <a:t>dentition difficilis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ргинални пародонтитис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ицирани заостаци коренова з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ициране цисте и др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ПИКАЛ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ДОН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3628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пикал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титис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разумевам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цију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пек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т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ронич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пик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тит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ве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кро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лп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ау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уз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укса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грејава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ушењ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емијск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штећ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терија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њ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па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рије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лпит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кро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лп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иог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актер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лп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цију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ли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еменск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терва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ћ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це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цију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цију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ат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крив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и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во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пикал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тити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зв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алвеолар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бсцесу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АРОДОНТАЛН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АПСЦ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619280"/>
            <a:ext cx="510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9560" indent="-1695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г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достатк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гингивал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по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ва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џеп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помогнут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ргинал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зградњ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менц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корект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ломба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ни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пун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ш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гије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рактериш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роз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ној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џеп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кал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инги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ронич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ћ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гзацерба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Tooth-Abscess-3"/>
          <p:cNvPicPr/>
          <p:nvPr/>
        </p:nvPicPr>
        <p:blipFill>
          <a:blip r:embed="rId2"/>
          <a:stretch/>
        </p:blipFill>
        <p:spPr>
          <a:xfrm>
            <a:off x="5516640" y="159876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ANd9GcRf8Tw1dhlLP9lbka1GUd6K6jqoiOuFPv5Fh6AvU-o9XIL01s0V"/>
          <p:cNvPicPr/>
          <p:nvPr/>
        </p:nvPicPr>
        <p:blipFill>
          <a:blip r:embed="rId3"/>
          <a:stretch/>
        </p:blipFill>
        <p:spPr>
          <a:xfrm>
            <a:off x="5516640" y="4076640"/>
            <a:ext cx="335268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0:25:21Z</dcterms:modified>
  <cp:revision>739</cp:revision>
  <dc:subject/>
  <dc:title>Diapositiva 1</dc:title>
</cp:coreProperties>
</file>